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38C-B815-495C-B42C-60205E69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A7D-3515-4428-B85C-E86AF706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14F-862E-4331-A312-2ECE6FD7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DD3-BF90-480D-8B4F-0DE31986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981-5D05-4E1D-86F3-707367ED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35C-9393-4704-B7E0-14160CCD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922-AF1D-484F-A256-728847E5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ED1-0B3A-476F-8BF6-C3103FBC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ED6-7C28-49D7-9279-E153D772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4A6-6F58-4C48-A880-DD8F85D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009-038B-400F-9FC4-BC7F1B64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481-86D8-491B-96A9-501CFE68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6074-6EAC-4A94-9A74-985D0E2379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zomszéd Isko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. dec. 6. 19 ó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192240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462800" y="108000"/>
            <a:ext cx="1572840" cy="1800000"/>
            <a:chOff x="7462800" y="108000"/>
            <a:chExt cx="1572840" cy="18000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462800" y="108000"/>
              <a:ext cx="157248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7463160" y="988200"/>
              <a:ext cx="1572480" cy="91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Fejet Len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ár azt hallottam, nagyon igyekszel, nem mennek olyan jól a dolgok. Talán azért, mert szétszórt va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óbálj meg néh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djuk –  óránként egyszer, pár percre megállni, és átgondolni, mit akartál az elmúlt órában csinálni és mi a célod a következő órá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81680" y="950760"/>
            <a:ext cx="392400" cy="452520"/>
            <a:chOff x="6781680" y="950760"/>
            <a:chExt cx="392400" cy="4525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9240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2880"/>
              <a:ext cx="392040" cy="23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53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6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6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7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7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8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8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8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9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9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96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Mik Rob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tív vagy, minden közösségi programban részt veszel, dolgozol az iskolai önkormányzatban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igyázz, hogy mindenre, még alvásra is megfelelő mennyiségű időd juss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781680" y="950760"/>
            <a:ext cx="389160" cy="448560"/>
            <a:chOff x="6781680" y="950760"/>
            <a:chExt cx="389160" cy="4485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891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0720"/>
              <a:ext cx="3888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104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1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11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11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1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1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13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14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25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8:42:05Z</dcterms:created>
  <dc:creator/>
  <dc:description/>
  <dc:language>en-US</dc:language>
  <cp:lastModifiedBy>OKÉV</cp:lastModifiedBy>
  <dcterms:modified xsi:type="dcterms:W3CDTF">2005-08-17T20:29:03Z</dcterms:modified>
  <cp:revision>20</cp:revision>
  <dc:subject/>
  <dc:title>Szomszéd Iskola</dc:title>
</cp:coreProperties>
</file>