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76E-B191-42A0-AD08-AC1A17FB046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9E0-82CF-4318-AC1F-722A627814BA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C14-5762-42C2-9A1C-4F86ABCC9918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4700-540C-45D0-A0D1-2C58D1C99DA8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AF0-5641-4890-966E-CEB80AA3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110-E050-4668-A446-9743329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59C-FDAA-4B9D-A7A9-A53933C7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164-8B32-4829-AD89-4F15C8C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9B8-AF38-4272-8236-4A85645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FC5-429B-43BA-98A3-09471D1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6B2-6166-4AC8-823F-B7D7551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B03-9171-4B7B-B22F-079FF21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AD2-40D0-4012-9001-C2729CC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C3C-90BC-443B-BC8B-6C74BBF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AE1-5C6D-4AA1-9609-B4B43D3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ED1-FEDF-4DB1-A986-178A365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613F-47E4-4015-B4A9-F1F4A7BA06D4}" type="datetime">
              <a:rPr b="0" lang="hu-HU" sz="1200" spc="-1" strike="noStrike">
                <a:solidFill>
                  <a:srgbClr val="fbfbaa"/>
                </a:solidFill>
                <a:latin typeface="Arial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E9F1-4C0D-40B1-98F9-C20191148A45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Tények a tojásról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bfbaa"/>
              </a:solidFill>
              <a:latin typeface="Arial"/>
            </a:endParaRPr>
          </a:p>
        </p:txBody>
      </p:sp>
      <p:sp>
        <p:nvSpPr>
          <p:cNvPr id="5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D58-64C2-415F-9AD8-CFB2D486F854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1" name="Kép 4" descr="hej.png"/>
          <p:cNvPicPr/>
          <p:nvPr/>
        </p:nvPicPr>
        <p:blipFill>
          <a:blip r:embed="rId1"/>
          <a:stretch/>
        </p:blipFill>
        <p:spPr>
          <a:xfrm>
            <a:off x="758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2" name="Kép 5" descr="hej.png"/>
          <p:cNvPicPr/>
          <p:nvPr/>
        </p:nvPicPr>
        <p:blipFill>
          <a:blip r:embed="rId2"/>
          <a:stretch/>
        </p:blipFill>
        <p:spPr>
          <a:xfrm>
            <a:off x="2855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3" name="Kép 6" descr="hej.png"/>
          <p:cNvPicPr/>
          <p:nvPr/>
        </p:nvPicPr>
        <p:blipFill>
          <a:blip r:embed="rId3"/>
          <a:stretch/>
        </p:blipFill>
        <p:spPr>
          <a:xfrm>
            <a:off x="495144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Kép 7" descr="hej.png"/>
          <p:cNvPicPr/>
          <p:nvPr/>
        </p:nvPicPr>
        <p:blipFill>
          <a:blip r:embed="rId4"/>
          <a:stretch/>
        </p:blipFill>
        <p:spPr>
          <a:xfrm>
            <a:off x="7048440" y="4214880"/>
            <a:ext cx="1336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4" descr="hej.png"/>
          <p:cNvPicPr/>
          <p:nvPr/>
        </p:nvPicPr>
        <p:blipFill>
          <a:blip r:embed="rId1"/>
          <a:stretch/>
        </p:blipFill>
        <p:spPr>
          <a:xfrm>
            <a:off x="214200" y="228600"/>
            <a:ext cx="475452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7" name="Tartalom helye 3" descr="feherje.png"/>
          <p:cNvPicPr/>
          <p:nvPr/>
        </p:nvPicPr>
        <p:blipFill>
          <a:blip r:embed="rId2"/>
          <a:stretch/>
        </p:blipFill>
        <p:spPr>
          <a:xfrm>
            <a:off x="328680" y="343080"/>
            <a:ext cx="452592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Kép 5" descr="sargaja.png"/>
          <p:cNvPicPr/>
          <p:nvPr/>
        </p:nvPicPr>
        <p:blipFill>
          <a:blip r:embed="rId3"/>
          <a:stretch/>
        </p:blipFill>
        <p:spPr>
          <a:xfrm>
            <a:off x="1357200" y="2500200"/>
            <a:ext cx="2652840" cy="2652840"/>
          </a:xfrm>
          <a:prstGeom prst="rect">
            <a:avLst/>
          </a:prstGeom>
          <a:ln w="0">
            <a:noFill/>
          </a:ln>
        </p:spPr>
      </p:pic>
      <p:sp>
        <p:nvSpPr>
          <p:cNvPr id="59" name="Téglalap feliratnak 6"/>
          <p:cNvSpPr/>
          <p:nvPr/>
        </p:nvSpPr>
        <p:spPr>
          <a:xfrm>
            <a:off x="5286240" y="1214280"/>
            <a:ext cx="2880000" cy="1079640"/>
          </a:xfrm>
          <a:prstGeom prst="wedgeRectCallout">
            <a:avLst>
              <a:gd name="adj1" fmla="val -82819"/>
              <a:gd name="adj2" fmla="val -13097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Mészhéj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0" name="Téglalap feliratnak 7"/>
          <p:cNvSpPr/>
          <p:nvPr/>
        </p:nvSpPr>
        <p:spPr>
          <a:xfrm>
            <a:off x="5357880" y="3000240"/>
            <a:ext cx="2879640" cy="1079640"/>
          </a:xfrm>
          <a:prstGeom prst="wedgeRectCallout">
            <a:avLst>
              <a:gd name="adj1" fmla="val -95671"/>
              <a:gd name="adj2" fmla="val -19143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Fehérje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1" name="Téglalap feliratnak 8"/>
          <p:cNvSpPr/>
          <p:nvPr/>
        </p:nvSpPr>
        <p:spPr>
          <a:xfrm>
            <a:off x="5429160" y="5143680"/>
            <a:ext cx="2879640" cy="1079280"/>
          </a:xfrm>
          <a:prstGeom prst="wedgeRectCallout">
            <a:avLst>
              <a:gd name="adj1" fmla="val -123263"/>
              <a:gd name="adj2" fmla="val -135055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Sárgája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2" name="Dia számának hely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F96-813D-430C-AF42-FE961404573E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274320"/>
            <a:ext cx="864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Az átlagos tyúktojás összetétele: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139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Tápanyag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Vitamin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Ásványi anyag 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5,4 gramm fehérje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4,8 gramm zsí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0,3 gramm szénhidrát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A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D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E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B-vitaminok,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l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pantotén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szfo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vas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cink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alc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ál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nátr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szelén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magnéz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30B-5A4D-4480-BEA7-5E554620020F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8:44:31Z</dcterms:created>
  <dc:creator>OH</dc:creator>
  <dc:description/>
  <dc:language>en-US</dc:language>
  <cp:lastModifiedBy>Oktatási Hivatal</cp:lastModifiedBy>
  <dcterms:modified xsi:type="dcterms:W3CDTF">2009-01-20T20:26:55Z</dcterms:modified>
  <cp:revision>17</cp:revision>
  <dc:subject/>
  <dc:title>1. dia</dc:title>
</cp:coreProperties>
</file>