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474-1A13-47EC-881F-5260BDD3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3DC-D7D3-4AEE-BFE0-AF43A7F1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C70-D23B-412A-8F13-39171E06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CD1-6DF4-4289-A1BE-D4F6A224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D43-6A25-47CD-B71D-B875736A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D888-FC1A-4CD7-8432-B340F997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5B1-F0E2-4D39-B9E4-B070F682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776-C28F-4CD2-A3A7-C0B30C03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6E48-17E3-492D-9AFF-513100EE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4F1-A271-4A14-ACB5-5BC9B7CF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61E-1417-4149-93E7-9112996A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CEB-667C-4192-860E-B5380F7B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24D3-1EAC-41F2-8055-3637DD0B448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 Light"/>
              </a:rPr>
              <a:t>Macskánk születet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2311560"/>
          <a:ext cx="8128080" cy="2966760"/>
        </p:xfrm>
        <a:graphic>
          <a:graphicData uri="http://schemas.openxmlformats.org/drawingml/2006/table">
            <a:tbl>
              <a:tblPr/>
              <a:tblGrid>
                <a:gridCol w="4064040"/>
                <a:gridCol w="406404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scicánk tömege 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étf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er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ütörtö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nt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omb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sárn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10T20:54:14Z</dcterms:created>
  <dc:creator/>
  <dc:description/>
  <dc:language>en-US</dc:language>
  <cp:lastModifiedBy/>
  <dcterms:modified xsi:type="dcterms:W3CDTF">2020-12-10T20:54:22Z</dcterms:modified>
  <cp:revision>1</cp:revision>
  <dc:subject/>
  <dc:title/>
</cp:coreProperties>
</file>